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AF1-B1E4-405C-BF7E-FCA53DA1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58C-DFBE-455C-970B-62F5473E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1AD-1996-4846-B34F-AE7D8A69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D89-BD05-4C87-9668-117DE654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BCF-5E08-433F-A041-401022EA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2533-DB6C-4CAD-8C5A-081C9E80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798-FF60-45C4-AE11-85A9A11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D4B7-0967-4DD9-8869-921F7D5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2D1D-49C9-4056-9BA6-CFF92C24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AAF-C2DE-4D3B-8746-86528DC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6597-AFA0-422E-890D-480F7E9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BC4-7CE7-4A2F-B885-2706C9A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415-01BB-4600-A227-EC371A8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6DBB-6FBC-4D81-B350-5614224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A62-D3E4-4355-ADE7-41FC0D6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EAE-2120-47D1-BAEC-41322B70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75B7-20E4-406A-A462-023416F0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60E-C43B-4584-AE2A-5A88E68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575-98E5-465F-A542-957EE47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9E4-B42B-4E62-BEE2-B4D1350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E7C-915F-467A-B483-9D17A9A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296-963A-484B-97F4-CEBB363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83A-7AB0-420E-8A4A-5589D02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730-1ECA-4102-84CA-482460F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3F3-B022-407C-B365-FE0B07F0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B08-93AE-4B28-8703-35E22166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rodnet.houstonisd.org/DAEP/Referrals.aspx" TargetMode="External"/><Relationship Id="rId2" Type="http://schemas.openxmlformats.org/officeDocument/2006/relationships/hyperlink" Target="http://prodnet.houstonisd.org/DAEP/Referrals.aspx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rodnet.houstonisd.org/DAEP/Referrals.aspx" TargetMode="External"/><Relationship Id="rId2" Type="http://schemas.openxmlformats.org/officeDocument/2006/relationships/hyperlink" Target="http://prodnet.houstonisd.org/DAEP/Referrals.aspx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he DAEP/JJAEP online referral program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it’s really simple!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note: The referral will not submit without a phone number and number of days 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7360" y="262728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5790960" cy="4038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525780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962520"/>
            <a:ext cx="195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get an error me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5. Print for your recor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67280" cy="4776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477120" y="1752480"/>
            <a:ext cx="213336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will appea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f you submitted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your record of the CEP referral – print it and place a copy in the student’s disciplin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happens next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’ll be notified when you submit a referral and we will update the stat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tatus will read “initial” when first entered, you will need to see a message notification to indicate we’ve processed it (more on this nex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 entered in chancery will not show on the online system until it has updated overnight – please keep this in mi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6. Status upda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271840" cy="4038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77120" y="175248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atus has been updated, you will see this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733920"/>
            <a:ext cx="2666880" cy="533160"/>
          </a:xfrm>
          <a:prstGeom prst="leftArrow">
            <a:avLst>
              <a:gd name="adj1" fmla="val 50000"/>
              <a:gd name="adj2" fmla="val 1250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383000"/>
            <a:ext cx="226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ss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7. Reading a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1676520"/>
            <a:ext cx="176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essag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here, along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othe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this 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617220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0800000">
            <a:off x="1676160" y="480024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4724280"/>
            <a:ext cx="1905120" cy="152640"/>
          </a:xfrm>
          <a:prstGeom prst="leftArrow">
            <a:avLst>
              <a:gd name="adj1" fmla="val 50000"/>
              <a:gd name="adj2" fmla="val 3120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14800"/>
            <a:ext cx="2133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is message contains information from me – please rea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267080"/>
            <a:ext cx="20574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message is automatically generated with a status change – NO INF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56236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00600" y="3505320"/>
            <a:ext cx="3276720" cy="761760"/>
          </a:xfrm>
          <a:prstGeom prst="leftArrow">
            <a:avLst>
              <a:gd name="adj1" fmla="val 50000"/>
              <a:gd name="adj2" fmla="val 1075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2600" y="43434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lick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87692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920" y="167652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you will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reply and type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657600"/>
            <a:ext cx="4114800" cy="304920"/>
          </a:xfrm>
          <a:prstGeom prst="leftArrow">
            <a:avLst>
              <a:gd name="adj1" fmla="val 50000"/>
              <a:gd name="adj2" fmla="val 3373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80120" y="4183200"/>
            <a:ext cx="34066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f this message states there has been a status update, please locate the message with the information from our office – the status update is automatically generated, it will give you NO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79040" y="2438280"/>
            <a:ext cx="270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itial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how you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referr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your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utilize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657600"/>
            <a:ext cx="4267440" cy="152280"/>
          </a:xfrm>
          <a:prstGeom prst="leftArrow">
            <a:avLst>
              <a:gd name="adj1" fmla="val 50000"/>
              <a:gd name="adj2" fmla="val 7005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8. Approv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referral is approved, you will get an email no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the email notification, put it in the student’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a copy of the approval, go to HISTORICAL and print the last message for the student – it is the approval em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ow is an expulsion different?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(from a CEP referral)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176200"/>
            <a:ext cx="7696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really isn’t. Remember – you must use the correct action code in Chancery for an expulsion (most often it is 02 EJJA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creen shots follow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1. First things first – is your data entered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cipline dat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entered into chancery with the appropriate action code (ex:07 ALTR for CEP, 02-EJJA for JJAEP) in order to use this system for a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 overnight upload must take place for chancery to “speak” to the online DAEP system – please keep thi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eckmark must be placed in chancery in the EVENT/CONCERN DETAIL SCREEN showing that this student was in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960" y="4608360"/>
            <a:ext cx="717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754600" y="990720"/>
            <a:ext cx="307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ent you wish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l will hav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creen 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when you sel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udent (thi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entered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c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33520"/>
            <a:ext cx="304920" cy="3124080"/>
          </a:xfrm>
          <a:prstGeom prst="downArrow">
            <a:avLst>
              <a:gd name="adj1" fmla="val 50000"/>
              <a:gd name="adj2" fmla="val 2561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267080" y="2286000"/>
            <a:ext cx="4191120" cy="228600"/>
          </a:xfrm>
          <a:prstGeom prst="leftArrow">
            <a:avLst>
              <a:gd name="adj1" fmla="val 50000"/>
              <a:gd name="adj2" fmla="val 4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410080"/>
            <a:ext cx="6324480" cy="228600"/>
          </a:xfrm>
          <a:prstGeom prst="leftArrow">
            <a:avLst>
              <a:gd name="adj1" fmla="val 50000"/>
              <a:gd name="adj2" fmla="val 6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5080" y="259092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you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lled”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35200" y="407844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scre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56840" y="3276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019920" cy="52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19720" y="2819520"/>
            <a:ext cx="3581280" cy="228600"/>
          </a:xfrm>
          <a:prstGeom prst="leftArrow">
            <a:avLst>
              <a:gd name="adj1" fmla="val 50000"/>
              <a:gd name="adj2" fmla="val 3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6320" y="3200400"/>
            <a:ext cx="194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0800000">
            <a:off x="3809520" y="4267080"/>
            <a:ext cx="3048120" cy="609840"/>
          </a:xfrm>
          <a:prstGeom prst="rightArrow">
            <a:avLst>
              <a:gd name="adj1" fmla="val 50000"/>
              <a:gd name="adj2" fmla="val 1249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23880" y="320040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ulsion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pulsion submitt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560840" cy="3962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62284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752480"/>
            <a:ext cx="25146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will appea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f you submitted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your record of the expulsion referral – print it and place a copy in the student’s disciplin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al not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essaging system works the same for an expulsion and for a CEP referral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ystem you use is the same for a CEP referral and an expul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ther inf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256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access “historical” data for your campus by selecting “historical” on your main 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46680" y="17892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419720" y="13716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019920" cy="5181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31200" y="2362320"/>
            <a:ext cx="20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by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us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0388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anges since last year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200400"/>
            <a:ext cx="1523880" cy="304920"/>
          </a:xfrm>
          <a:prstGeom prst="lef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1240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New!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rop down with school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010280" y="2819160"/>
            <a:ext cx="6098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about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pecial Education students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DAEP referrals, we need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DR, last annual ARD, and the Special Education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pecial Education form must be signed by the designated people in the SIO offi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JAEP referrals need: MDR supplement, minutes and signature page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vent/concern detail scre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91160" cy="4038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4876920"/>
            <a:ext cx="609480" cy="990360"/>
          </a:xfrm>
          <a:custGeom>
            <a:avLst/>
            <a:gdLst>
              <a:gd name="textAreaLeft" fmla="*/ 0 w 609480"/>
              <a:gd name="textAreaRight" fmla="*/ 609840 w 6094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1055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172200"/>
            <a:ext cx="548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ckmark is needed on this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2743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prodnet.houstonisd.org/DAEP/Referrals.asp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2. Log in to the syste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prodnet.houstonisd.org/DAEP/Referrals.asp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re you will be prompted for your HISD username and password (this is your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ortal passwor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not forget an overnight upload must take place between chancery input and utilizing the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7680" y="52941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1800" y="5935680"/>
            <a:ext cx="775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648320"/>
            <a:ext cx="8001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appear under “campus referrals” – if the student is not listed, it means the student’s data is not in chanc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“find a student” – you should NEVER have to search for a student if chancery data is cor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. Select the student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44840" y="2652840"/>
            <a:ext cx="5769000" cy="292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41148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36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990360" y="24382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4080" y="24382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15000"/>
            <a:ext cx="792504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CEP referral – fields in yellow are filled out by chanc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. Select number of day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5791320" cy="4191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0800000">
            <a:off x="6019920" y="3580920"/>
            <a:ext cx="1752480" cy="414360"/>
          </a:xfrm>
          <a:prstGeom prst="rightArrow">
            <a:avLst>
              <a:gd name="adj1" fmla="val 50000"/>
              <a:gd name="adj2" fmla="val 1057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200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9718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027200">
            <a:off x="1676160" y="403812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3526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placement is to end with the end of a semester, select tha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. Add your phone number and submi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12920" y="1905120"/>
            <a:ext cx="534528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5334120"/>
            <a:ext cx="838440" cy="990360"/>
          </a:xfrm>
          <a:custGeom>
            <a:avLst/>
            <a:gdLst>
              <a:gd name="textAreaLeft" fmla="*/ 279360 w 838440"/>
              <a:gd name="textAreaRight" fmla="*/ 718200 w 838440"/>
              <a:gd name="textAreaTop" fmla="*/ 570240 h 990360"/>
              <a:gd name="textAreaBottom" fmla="*/ 8485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5181480"/>
            <a:ext cx="3124080" cy="457200"/>
          </a:xfrm>
          <a:prstGeom prst="rightArrow">
            <a:avLst>
              <a:gd name="adj1" fmla="val 50000"/>
              <a:gd name="adj2" fmla="val 170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6:15:42Z</dcterms:created>
  <dc:creator>HISD</dc:creator>
  <dc:description/>
  <dc:language>en-US</dc:language>
  <cp:lastModifiedBy>HISD</cp:lastModifiedBy>
  <dcterms:modified xsi:type="dcterms:W3CDTF">2011-02-02T19:56:06Z</dcterms:modified>
  <cp:revision>64</cp:revision>
  <dc:subject/>
  <dc:title>The new DAEP/JJAEP online referral program</dc:title>
</cp:coreProperties>
</file>